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DA21-26A5-45DE-9720-9E65DAA97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BCC4-4775-43AE-85AC-93DBA725B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0ABE-24AB-49C2-BB54-E6DB37328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3B2F-65C4-4057-8E6E-D6EBF9DFB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2050-4D5D-4954-A325-0BCE8ED03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209E-BDEA-4935-9B6C-8FD6B9D4E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1F66-3B63-4652-B8BC-40E905AFC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F1E8-F0FF-4826-B7D0-BDD24AB32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E9D5-5622-4CFD-801A-B0DA2B282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308D-C610-47D4-B143-7F1764D20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DEAE-C6F4-43FF-BA3B-F189E558E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A8CA-B652-44D3-A01C-EB76E0FE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ABBA4-86FD-4299-9B9D-42CE49342696}" type="slidenum">
              <a:rPr b="0" lang="ro-R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FRUMOSU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Estetică, clasa a XII-a,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 Adrian Iorgulescu, Doina Pungă, Gheorghe Stroia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214200" y="572400"/>
            <a:ext cx="860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68000" y="907920"/>
            <a:ext cx="439092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Calibri"/>
              </a:rPr>
              <a:t>Categorie fundamentală a esteticii, frumosul reflectă însu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Calibri"/>
              </a:rPr>
              <a:t>iril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Calibri"/>
              </a:rPr>
              <a:t>i proprietă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le naturii, vi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i social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 ale crea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ilor umane capabile să trezească în personalitatea valorificatoare stări de satisfac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e, emo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 bucurie estetică, precum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 aptitudinil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 înzestrările specifice ale fii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i ome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i generatoare a sentimentelor de plăcer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 admira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e. Frumosul oglindeşte deopotrivă ordinea lumii exterioare, obiective şi armonia trăirilor interioare, subiective, sociabilitatea şi individualitatea omului, îmbinând planul senzorialităţii afective cu cel al raţionalităţii lucide în efortul de a obţine o imagine globală unitară asupra condiţiei umane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 plan european, primele reflecţii asupra frumosului s-au ivit în orizontul spiritual elen. Întrebându-se „ce e frumosu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”, Platon îl aprecia ca pe un lucru folositor, potrivit scopului său, făcut cu meşteşug şi care produce o plăcere recepţionată cu ajutorul văzului şi auzulu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ntru el, ca şi pentru mulţi alţii, nu toate plăcerile sunt estetice, ci numai acelea care ţin de simţurile superioare, singurele apte să asigure o stare agreabilă, de desfătare spiritual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u trebuie să năzuieşti către orice plăcere, spunea Democrit, ci numai către plăcerea pentru ceea ce este frumos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eşi de natură ideală, abstractă, plasat ca arhetip universal în zonele ideii pure, frumosul, afirma Platon, are strânse contacte cu binele, „identificându-se pretutindeni cu măsura şi proporţia”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539640" y="260280"/>
            <a:ext cx="8353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292720" y="1773360"/>
            <a:ext cx="33336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rile de existenţă ale frumosului.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mosul natural, asigurat de existenţa elementelor primordial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anic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zic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mic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ice.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mosul uman, constituit di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museţea corpului omenesc, alcătuită în principal din elemente naturale, native, dar şi dintr-o îndelungată şlefuire civilizatoar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museţea sufletească, rezultat aproape integral al eforturilor de înnobilare uman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museţea etică a vastelor relaţii dintre oameni [...]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museţea ambientală a locului şi rezultatele muncii omeneşti.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mosul artistic. Existenţa sa este asigurată […] d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urile reflectării frumuseţii din realitate;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acităţile demiurgice ale omului de artă care, pornind de la lumea reală, făureşte o realitate nouă.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539640" y="260280"/>
            <a:ext cx="784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5:51:42Z</dcterms:created>
  <dc:creator>CNEE</dc:creator>
  <dc:description/>
  <dc:language>en-US</dc:language>
  <cp:lastModifiedBy>LiviaT</cp:lastModifiedBy>
  <dcterms:modified xsi:type="dcterms:W3CDTF">2012-03-14T12:49:49Z</dcterms:modified>
  <cp:revision>37</cp:revision>
  <dc:subject/>
  <dc:title>SALARIUL</dc:title>
</cp:coreProperties>
</file>